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7B1-A5D3-4384-BCC7-B398530D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17E-D678-4736-AF1E-518BBF34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DD5-D124-4332-8108-B09348E3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C22-BC11-41FA-B938-B7D2888F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6A18-30AB-4731-9771-7995AB7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79F8-1710-4FF4-97CD-09C57F5D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C8E-B726-440D-8DC7-2342D36C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0801-1209-4AD2-B8A3-000A88FC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57B3-9A68-4E42-817A-3B6FE5A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C24-A1F9-48DF-A4E2-138E37C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8769-4D46-4F9D-AEB2-9DDB61F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663-2B18-48E2-A247-0484897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289D-1777-4283-A571-C6B0090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F9BF-7E0D-4694-92C5-42DCF18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D1F9-FD5E-4BF5-BCCB-E5852A49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EFDC-9CCB-4732-904B-03292EF1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103F-BC89-416C-A0CE-848B58C4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9D2-DCA9-4434-B36F-95226F93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325-BFDB-46B7-ADAE-05313E0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569-FA69-4C79-BAB5-9845A74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08A-2D99-477C-9298-2BE59AEA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28A-2A17-4ED1-96A6-1B684EE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4AA-6D6E-4594-BB7C-C36A183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8AB-ED3E-44E4-BE20-0C6A7BF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98BB-D16E-418A-B0DF-702045123F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3E6-1A2F-45B5-B2A3-49BA8910CE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914400" y="1600200"/>
            <a:ext cx="6848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m mă poate ajuta statistica 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în luarea de hotărâri? 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99"/>
                </a:solidFill>
                <a:latin typeface="Arial"/>
              </a:rPr>
              <a:t>Ce înseamnă statistic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23880" y="2354760"/>
            <a:ext cx="72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De ce a apărut necesitatea acestei științe?</a:t>
            </a: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3200" y="33541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ât de exacte pot fi predicțiile bazate pe statistică?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16800" y="457344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are este influenţa statisticii asupra vieţii noastre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ffff99"/>
                </a:solidFill>
                <a:uFillTx/>
                <a:latin typeface="Arial"/>
              </a:rPr>
              <a:t>Date la nivelul școli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916280"/>
          <a:ext cx="4140360" cy="3138480"/>
        </p:xfrm>
        <a:graphic>
          <a:graphicData uri="http://schemas.openxmlformats.org/drawingml/2006/table">
            <a:tbl>
              <a:tblPr/>
              <a:tblGrid>
                <a:gridCol w="754200"/>
                <a:gridCol w="863640"/>
                <a:gridCol w="779400"/>
                <a:gridCol w="995400"/>
                <a:gridCol w="74772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racteristic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a absolu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relativ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absolută cumula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relativă cumula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3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45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-6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-10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5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5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59"/>
          <p:cNvSpPr/>
          <p:nvPr/>
        </p:nvSpPr>
        <p:spPr>
          <a:xfrm>
            <a:off x="0" y="461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hart 2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60836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CasetăText 5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e semnificație au următoarele date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533520" y="1676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Segoe Print"/>
              </a:rPr>
              <a:t>S</a:t>
            </a:r>
            <a:r>
              <a:rPr b="1" lang="hu-HU" sz="2400" spc="-1" strike="noStrike">
                <a:solidFill>
                  <a:srgbClr val="ffffff"/>
                </a:solidFill>
                <a:latin typeface="Segoe Print"/>
              </a:rPr>
              <a:t>tatistica</a:t>
            </a: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 se ocupă cu organizarea, prelucrarea și interpretarea datelor, precum și cu previziuni legate de evenimente ce se pot realiza în viito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Astăzi există, aproape în fiecare țară organisme specializate pe statistică, agenții naționale de demografie, institute ce realizează sondaje de opinie</a:t>
            </a:r>
            <a:r>
              <a:rPr b="0" lang="hu-H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5:09:56Z</dcterms:created>
  <dc:creator>Colegiul</dc:creator>
  <dc:description/>
  <dc:language>en-US</dc:language>
  <cp:lastModifiedBy>Hasas Tunde</cp:lastModifiedBy>
  <dcterms:modified xsi:type="dcterms:W3CDTF">2011-02-03T11:00:49Z</dcterms:modified>
  <cp:revision>9</cp:revision>
  <dc:subject/>
  <dc:title>Slide 1</dc:title>
</cp:coreProperties>
</file>